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99F-6000-48F7-B8CD-4277CE61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EFD-488E-4BA3-8873-4CB7741C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68D-6264-4EB0-BBC2-EAAB3B03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194-C525-423B-A0D8-0A95D70F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890-A1E4-4DF8-8B4B-0912E79D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FCF-36E7-42B7-A87D-80674748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39A-599A-4D33-9DC0-B9A9D58C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BA17-8EBE-4CA3-849E-6B05E0C8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F337-B89C-44B3-BA16-575BA463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73C0-73F3-4FFD-A5E2-D7B650AC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5657-C9C9-4E35-A445-717CBF4D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01E-41DF-401A-92B8-070897EE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dows - základn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AE32-46D7-4767-8766-41D92F9DD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ows - z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 je co velk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kument ve Word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řádech stovek kiloby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ísnič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řádech jednotek megaby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tograf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 desítek kilobytů po několik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de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ovečerní film zhruba od 700 MB do několika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 čemu slouží Window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50920" y="4220640"/>
            <a:ext cx="8497800" cy="2303640"/>
            <a:chOff x="250920" y="4220640"/>
            <a:chExt cx="8497800" cy="2303640"/>
          </a:xfrm>
        </p:grpSpPr>
        <p:sp>
          <p:nvSpPr>
            <p:cNvPr id="45" name=""/>
            <p:cNvSpPr/>
            <p:nvPr/>
          </p:nvSpPr>
          <p:spPr>
            <a:xfrm rot="16200000">
              <a:off x="3348000" y="1123560"/>
              <a:ext cx="2303640" cy="849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71640" y="4797360"/>
              <a:ext cx="1295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vný 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03280" y="5661000"/>
              <a:ext cx="15130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afická kar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56000" y="4797360"/>
              <a:ext cx="180000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ákladní des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03640" y="5661000"/>
              <a:ext cx="1295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skár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88000" y="4797360"/>
              <a:ext cx="129528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16360" y="5589720"/>
              <a:ext cx="392436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lší části, na které si „lze sáhnout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50920" y="1197000"/>
            <a:ext cx="8497800" cy="1224000"/>
            <a:chOff x="250920" y="1197000"/>
            <a:chExt cx="8497800" cy="1224000"/>
          </a:xfrm>
        </p:grpSpPr>
        <p:sp>
          <p:nvSpPr>
            <p:cNvPr id="53" name=""/>
            <p:cNvSpPr/>
            <p:nvPr/>
          </p:nvSpPr>
          <p:spPr>
            <a:xfrm>
              <a:off x="1403280" y="1268280"/>
              <a:ext cx="136836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020000" y="1268280"/>
              <a:ext cx="136836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lší „aplikační software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48360" y="1268280"/>
              <a:ext cx="136836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c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03640" y="1268280"/>
              <a:ext cx="136836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netový prohlíže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6200000">
              <a:off x="3887640" y="-2439720"/>
              <a:ext cx="1224000" cy="849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lik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8" name=""/>
          <p:cNvCxnSpPr>
            <a:stCxn id="53" idx="2"/>
          </p:cNvCxnSpPr>
          <p:nvPr/>
        </p:nvCxnSpPr>
        <p:spPr>
          <a:xfrm flipH="1">
            <a:off x="1763280" y="2060280"/>
            <a:ext cx="324720" cy="266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endCxn id="47" idx="0"/>
          </p:cNvCxnSpPr>
          <p:nvPr/>
        </p:nvCxnSpPr>
        <p:spPr>
          <a:xfrm>
            <a:off x="2085840" y="1989000"/>
            <a:ext cx="75600" cy="367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3" idx="2"/>
            <a:endCxn id="49" idx="0"/>
          </p:cNvCxnSpPr>
          <p:nvPr/>
        </p:nvCxnSpPr>
        <p:spPr>
          <a:xfrm>
            <a:off x="2087280" y="2060280"/>
            <a:ext cx="1764360" cy="360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53" idx="2"/>
            <a:endCxn id="48" idx="0"/>
          </p:cNvCxnSpPr>
          <p:nvPr/>
        </p:nvCxnSpPr>
        <p:spPr>
          <a:xfrm>
            <a:off x="2087280" y="2060640"/>
            <a:ext cx="1369080" cy="27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53" idx="2"/>
            <a:endCxn id="50" idx="0"/>
          </p:cNvCxnSpPr>
          <p:nvPr/>
        </p:nvCxnSpPr>
        <p:spPr>
          <a:xfrm>
            <a:off x="2087640" y="2060640"/>
            <a:ext cx="3348720" cy="27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53" idx="2"/>
            <a:endCxn id="51" idx="0"/>
          </p:cNvCxnSpPr>
          <p:nvPr/>
        </p:nvCxnSpPr>
        <p:spPr>
          <a:xfrm>
            <a:off x="2087280" y="2060280"/>
            <a:ext cx="4591800" cy="352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56" idx="2"/>
            <a:endCxn id="46" idx="0"/>
          </p:cNvCxnSpPr>
          <p:nvPr/>
        </p:nvCxnSpPr>
        <p:spPr>
          <a:xfrm flipH="1">
            <a:off x="1618560" y="2060640"/>
            <a:ext cx="2269080" cy="27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56" idx="2"/>
            <a:endCxn id="47" idx="0"/>
          </p:cNvCxnSpPr>
          <p:nvPr/>
        </p:nvCxnSpPr>
        <p:spPr>
          <a:xfrm flipH="1">
            <a:off x="2160000" y="2060280"/>
            <a:ext cx="1727640" cy="360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56" idx="2"/>
            <a:endCxn id="48" idx="0"/>
          </p:cNvCxnSpPr>
          <p:nvPr/>
        </p:nvCxnSpPr>
        <p:spPr>
          <a:xfrm flipH="1">
            <a:off x="3455280" y="2060640"/>
            <a:ext cx="432360" cy="27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"/>
          <p:cNvCxnSpPr>
            <a:stCxn id="56" idx="2"/>
            <a:endCxn id="49" idx="0"/>
          </p:cNvCxnSpPr>
          <p:nvPr/>
        </p:nvCxnSpPr>
        <p:spPr>
          <a:xfrm flipH="1">
            <a:off x="3850560" y="2060280"/>
            <a:ext cx="37080" cy="360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56" idx="2"/>
            <a:endCxn id="50" idx="0"/>
          </p:cNvCxnSpPr>
          <p:nvPr/>
        </p:nvCxnSpPr>
        <p:spPr>
          <a:xfrm>
            <a:off x="3887640" y="2060640"/>
            <a:ext cx="1548720" cy="27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6" idx="2"/>
            <a:endCxn id="51" idx="0"/>
          </p:cNvCxnSpPr>
          <p:nvPr/>
        </p:nvCxnSpPr>
        <p:spPr>
          <a:xfrm>
            <a:off x="3887280" y="2060280"/>
            <a:ext cx="2791440" cy="352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55" idx="2"/>
            <a:endCxn id="46" idx="0"/>
          </p:cNvCxnSpPr>
          <p:nvPr/>
        </p:nvCxnSpPr>
        <p:spPr>
          <a:xfrm flipH="1">
            <a:off x="1618920" y="2060640"/>
            <a:ext cx="4213440" cy="27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55" idx="2"/>
            <a:endCxn id="47" idx="0"/>
          </p:cNvCxnSpPr>
          <p:nvPr/>
        </p:nvCxnSpPr>
        <p:spPr>
          <a:xfrm flipH="1">
            <a:off x="2160000" y="2060280"/>
            <a:ext cx="3672360" cy="360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55" idx="2"/>
            <a:endCxn id="48" idx="0"/>
          </p:cNvCxnSpPr>
          <p:nvPr/>
        </p:nvCxnSpPr>
        <p:spPr>
          <a:xfrm flipH="1">
            <a:off x="3455280" y="2060640"/>
            <a:ext cx="2377080" cy="27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" name=""/>
          <p:cNvCxnSpPr>
            <a:stCxn id="55" idx="2"/>
            <a:endCxn id="49" idx="0"/>
          </p:cNvCxnSpPr>
          <p:nvPr/>
        </p:nvCxnSpPr>
        <p:spPr>
          <a:xfrm flipH="1">
            <a:off x="3850560" y="2060280"/>
            <a:ext cx="1981800" cy="360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" name=""/>
          <p:cNvCxnSpPr>
            <a:stCxn id="55" idx="2"/>
            <a:endCxn id="50" idx="0"/>
          </p:cNvCxnSpPr>
          <p:nvPr/>
        </p:nvCxnSpPr>
        <p:spPr>
          <a:xfrm flipH="1">
            <a:off x="5435280" y="2060640"/>
            <a:ext cx="397440" cy="27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55" idx="2"/>
            <a:endCxn id="51" idx="0"/>
          </p:cNvCxnSpPr>
          <p:nvPr/>
        </p:nvCxnSpPr>
        <p:spPr>
          <a:xfrm>
            <a:off x="5832000" y="2060280"/>
            <a:ext cx="847080" cy="352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 flipH="1">
            <a:off x="1618920" y="2060640"/>
            <a:ext cx="6085440" cy="27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54" idx="2"/>
            <a:endCxn id="47" idx="0"/>
          </p:cNvCxnSpPr>
          <p:nvPr/>
        </p:nvCxnSpPr>
        <p:spPr>
          <a:xfrm flipH="1">
            <a:off x="2160360" y="2060280"/>
            <a:ext cx="5544000" cy="360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" name=""/>
          <p:cNvCxnSpPr>
            <a:stCxn id="54" idx="2"/>
            <a:endCxn id="48" idx="0"/>
          </p:cNvCxnSpPr>
          <p:nvPr/>
        </p:nvCxnSpPr>
        <p:spPr>
          <a:xfrm flipH="1">
            <a:off x="3456000" y="2060640"/>
            <a:ext cx="4248360" cy="27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54" idx="2"/>
            <a:endCxn id="49" idx="0"/>
          </p:cNvCxnSpPr>
          <p:nvPr/>
        </p:nvCxnSpPr>
        <p:spPr>
          <a:xfrm flipH="1">
            <a:off x="3850920" y="2060280"/>
            <a:ext cx="3853440" cy="360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" name=""/>
          <p:cNvCxnSpPr>
            <a:stCxn id="54" idx="2"/>
            <a:endCxn id="50" idx="0"/>
          </p:cNvCxnSpPr>
          <p:nvPr/>
        </p:nvCxnSpPr>
        <p:spPr>
          <a:xfrm flipH="1">
            <a:off x="5434920" y="2060640"/>
            <a:ext cx="2269080" cy="273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" name=""/>
          <p:cNvCxnSpPr>
            <a:stCxn id="54" idx="2"/>
            <a:endCxn id="51" idx="0"/>
          </p:cNvCxnSpPr>
          <p:nvPr/>
        </p:nvCxnSpPr>
        <p:spPr>
          <a:xfrm flipH="1">
            <a:off x="6678360" y="2060280"/>
            <a:ext cx="1026000" cy="352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rot="16200000">
            <a:off x="3348000" y="1123560"/>
            <a:ext cx="2303640" cy="849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je to operační systé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4797360"/>
            <a:ext cx="1295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vný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03280" y="5661000"/>
            <a:ext cx="1513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ická ka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56000" y="4797360"/>
            <a:ext cx="1800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kladní de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3640" y="5661000"/>
            <a:ext cx="1295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skár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4797360"/>
            <a:ext cx="1295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16360" y="5589720"/>
            <a:ext cx="3924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ší části, na které si „lze sáhnout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03280" y="1268280"/>
            <a:ext cx="1368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20000" y="1268280"/>
            <a:ext cx="1368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ší „aplikační software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48360" y="1268280"/>
            <a:ext cx="1368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1268280"/>
            <a:ext cx="1368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ový prohlíže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3887640" y="-2439720"/>
            <a:ext cx="1224000" cy="849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li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2637000"/>
            <a:ext cx="6842160" cy="12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(nebo jiný operační systé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0" idx="2"/>
            <a:endCxn id="95" idx="0"/>
          </p:cNvCxnSpPr>
          <p:nvPr/>
        </p:nvCxnSpPr>
        <p:spPr>
          <a:xfrm>
            <a:off x="2087280" y="2060280"/>
            <a:ext cx="2377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3" idx="2"/>
            <a:endCxn id="95" idx="0"/>
          </p:cNvCxnSpPr>
          <p:nvPr/>
        </p:nvCxnSpPr>
        <p:spPr>
          <a:xfrm>
            <a:off x="3887280" y="2060280"/>
            <a:ext cx="577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92" idx="2"/>
            <a:endCxn id="95" idx="0"/>
          </p:cNvCxnSpPr>
          <p:nvPr/>
        </p:nvCxnSpPr>
        <p:spPr>
          <a:xfrm flipH="1">
            <a:off x="4463280" y="2060280"/>
            <a:ext cx="13690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91" idx="2"/>
            <a:endCxn id="95" idx="0"/>
          </p:cNvCxnSpPr>
          <p:nvPr/>
        </p:nvCxnSpPr>
        <p:spPr>
          <a:xfrm flipH="1">
            <a:off x="4463640" y="2060280"/>
            <a:ext cx="324072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95" idx="2"/>
            <a:endCxn id="84" idx="0"/>
          </p:cNvCxnSpPr>
          <p:nvPr/>
        </p:nvCxnSpPr>
        <p:spPr>
          <a:xfrm flipH="1">
            <a:off x="1618920" y="3933360"/>
            <a:ext cx="284544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95" idx="2"/>
            <a:endCxn id="85" idx="0"/>
          </p:cNvCxnSpPr>
          <p:nvPr/>
        </p:nvCxnSpPr>
        <p:spPr>
          <a:xfrm flipH="1">
            <a:off x="2160360" y="3933720"/>
            <a:ext cx="2304000" cy="172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95" idx="2"/>
            <a:endCxn id="86" idx="0"/>
          </p:cNvCxnSpPr>
          <p:nvPr/>
        </p:nvCxnSpPr>
        <p:spPr>
          <a:xfrm flipH="1">
            <a:off x="3455640" y="3933360"/>
            <a:ext cx="100872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95" idx="2"/>
            <a:endCxn id="88" idx="0"/>
          </p:cNvCxnSpPr>
          <p:nvPr/>
        </p:nvCxnSpPr>
        <p:spPr>
          <a:xfrm>
            <a:off x="4463640" y="3933360"/>
            <a:ext cx="97236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95" idx="2"/>
            <a:endCxn id="87" idx="0"/>
          </p:cNvCxnSpPr>
          <p:nvPr/>
        </p:nvCxnSpPr>
        <p:spPr>
          <a:xfrm flipH="1">
            <a:off x="3850920" y="3933720"/>
            <a:ext cx="613440" cy="172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5" idx="2"/>
            <a:endCxn id="89" idx="0"/>
          </p:cNvCxnSpPr>
          <p:nvPr/>
        </p:nvCxnSpPr>
        <p:spPr>
          <a:xfrm>
            <a:off x="4464000" y="3933720"/>
            <a:ext cx="2215440" cy="165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je to soub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bor je základní jednotkou při ukládání dat v počítač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, co máme v našem počítači uložené, je v nějakém soub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méno souboru: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zev.přípona (např. výkazy.xls, dovolená.jp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bor vzniká např. tím, že ve Wordu kliknu na „Uložit“ nebo „Uložit jako“ a vyplním jméno a umíst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y soubo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xtové (např. „můj projekt.doc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bulky (např. „moje tabulka.xls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rázky (např. „já na dovolené.jpg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udba (např. „krasna pisnicka.mp3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ideo (např. „svatba kamarádky.avi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stémové soubory (nejrůznější jména, různé přípo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sářová struk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57200" y="1600200"/>
            <a:ext cx="8229600" cy="4525560"/>
            <a:chOff x="457200" y="1600200"/>
            <a:chExt cx="8229600" cy="4525560"/>
          </a:xfrm>
        </p:grpSpPr>
        <p:cxnSp>
          <p:nvCxnSpPr>
            <p:cNvPr id="112" name="_s6187"/>
            <p:cNvCxnSpPr>
              <a:stCxn id="113" idx="1"/>
              <a:endCxn id="114" idx="2"/>
            </p:cNvCxnSpPr>
            <p:nvPr/>
          </p:nvCxnSpPr>
          <p:spPr>
            <a:xfrm rot="10800000">
              <a:off x="2514240" y="4767480"/>
              <a:ext cx="185040" cy="1133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6185"/>
            <p:cNvCxnSpPr>
              <a:stCxn id="116" idx="1"/>
              <a:endCxn id="114" idx="2"/>
            </p:cNvCxnSpPr>
            <p:nvPr/>
          </p:nvCxnSpPr>
          <p:spPr>
            <a:xfrm rot="10800000">
              <a:off x="2514240" y="4767480"/>
              <a:ext cx="185040" cy="45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6183"/>
            <p:cNvCxnSpPr>
              <a:stCxn id="114" idx="1"/>
              <a:endCxn id="118" idx="2"/>
            </p:cNvCxnSpPr>
            <p:nvPr/>
          </p:nvCxnSpPr>
          <p:spPr>
            <a:xfrm rot="10800000">
              <a:off x="1766160" y="4088520"/>
              <a:ext cx="18612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6181"/>
            <p:cNvCxnSpPr>
              <a:stCxn id="120" idx="3"/>
              <a:endCxn id="118" idx="2"/>
            </p:cNvCxnSpPr>
            <p:nvPr/>
          </p:nvCxnSpPr>
          <p:spPr>
            <a:xfrm flipV="1">
              <a:off x="1577880" y="4088880"/>
              <a:ext cx="18900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6176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7358400" y="2189160"/>
              <a:ext cx="226800" cy="1310400"/>
            </a:xfrm>
            <a:prstGeom prst="bentConnector3">
              <a:avLst>
                <a:gd name="adj1" fmla="val 499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6172"/>
            <p:cNvCxnSpPr>
              <a:stCxn id="118" idx="3"/>
              <a:endCxn id="125" idx="2"/>
            </p:cNvCxnSpPr>
            <p:nvPr/>
          </p:nvCxnSpPr>
          <p:spPr>
            <a:xfrm flipV="1">
              <a:off x="2326320" y="3409920"/>
              <a:ext cx="168588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6170"/>
            <p:cNvCxnSpPr>
              <a:stCxn id="125" idx="0"/>
              <a:endCxn id="127" idx="2"/>
            </p:cNvCxnSpPr>
            <p:nvPr/>
          </p:nvCxnSpPr>
          <p:spPr>
            <a:xfrm flipV="1" rot="16200000">
              <a:off x="3149640" y="2095920"/>
              <a:ext cx="226800" cy="1497240"/>
            </a:xfrm>
            <a:prstGeom prst="bentConnector3">
              <a:avLst>
                <a:gd name="adj1" fmla="val 499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6168"/>
            <p:cNvCxnSpPr>
              <a:stCxn id="129" idx="0"/>
              <a:endCxn id="127" idx="2"/>
            </p:cNvCxnSpPr>
            <p:nvPr/>
          </p:nvCxnSpPr>
          <p:spPr>
            <a:xfrm flipH="1" flipV="1" rot="5400000">
              <a:off x="1653840" y="2096640"/>
              <a:ext cx="226800" cy="1496160"/>
            </a:xfrm>
            <a:prstGeom prst="bentConnector3">
              <a:avLst>
                <a:gd name="adj1" fmla="val 499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6166"/>
            <p:cNvCxnSpPr>
              <a:stCxn id="131" idx="1"/>
              <a:endCxn id="132" idx="2"/>
            </p:cNvCxnSpPr>
            <p:nvPr/>
          </p:nvCxnSpPr>
          <p:spPr>
            <a:xfrm rot="10800000">
              <a:off x="5508000" y="3409560"/>
              <a:ext cx="18612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6164"/>
            <p:cNvCxnSpPr>
              <a:stCxn id="134" idx="3"/>
              <a:endCxn id="132" idx="2"/>
            </p:cNvCxnSpPr>
            <p:nvPr/>
          </p:nvCxnSpPr>
          <p:spPr>
            <a:xfrm flipV="1">
              <a:off x="5318640" y="3409920"/>
              <a:ext cx="19044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6162"/>
            <p:cNvCxnSpPr>
              <a:stCxn id="136" idx="0"/>
              <a:endCxn id="123" idx="2"/>
            </p:cNvCxnSpPr>
            <p:nvPr/>
          </p:nvCxnSpPr>
          <p:spPr>
            <a:xfrm flipV="1" rot="16200000">
              <a:off x="6704280" y="2843280"/>
              <a:ext cx="226800" cy="2160"/>
            </a:xfrm>
            <a:prstGeom prst="bentConnector3">
              <a:avLst>
                <a:gd name="adj1" fmla="val 499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6160"/>
            <p:cNvCxnSpPr>
              <a:stCxn id="132" idx="0"/>
              <a:endCxn id="123" idx="2"/>
            </p:cNvCxnSpPr>
            <p:nvPr/>
          </p:nvCxnSpPr>
          <p:spPr>
            <a:xfrm flipH="1" flipV="1" rot="5400000">
              <a:off x="6049080" y="2190240"/>
              <a:ext cx="226800" cy="1308600"/>
            </a:xfrm>
            <a:prstGeom prst="bentConnector3">
              <a:avLst>
                <a:gd name="adj1" fmla="val 499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6156"/>
            <p:cNvCxnSpPr>
              <a:stCxn id="123" idx="0"/>
              <a:endCxn id="139" idx="2"/>
            </p:cNvCxnSpPr>
            <p:nvPr/>
          </p:nvCxnSpPr>
          <p:spPr>
            <a:xfrm flipV="1" rot="16200000">
              <a:off x="5627880" y="1089720"/>
              <a:ext cx="226800" cy="2151720"/>
            </a:xfrm>
            <a:prstGeom prst="bentConnector3">
              <a:avLst>
                <a:gd name="adj1" fmla="val 502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6155"/>
            <p:cNvCxnSpPr>
              <a:stCxn id="127" idx="0"/>
              <a:endCxn id="139" idx="2"/>
            </p:cNvCxnSpPr>
            <p:nvPr/>
          </p:nvCxnSpPr>
          <p:spPr>
            <a:xfrm flipH="1" flipV="1" rot="5400000">
              <a:off x="3476520" y="1090080"/>
              <a:ext cx="226800" cy="2151000"/>
            </a:xfrm>
            <a:prstGeom prst="bentConnector3">
              <a:avLst>
                <a:gd name="adj1" fmla="val 502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6151"/>
            <p:cNvSpPr/>
            <p:nvPr/>
          </p:nvSpPr>
          <p:spPr>
            <a:xfrm>
              <a:off x="4102560" y="1600200"/>
              <a:ext cx="1122480" cy="4525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ento počítač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6152"/>
            <p:cNvSpPr/>
            <p:nvPr/>
          </p:nvSpPr>
          <p:spPr>
            <a:xfrm>
              <a:off x="1952280" y="2278800"/>
              <a:ext cx="1122480" cy="4525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k 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6153"/>
            <p:cNvSpPr/>
            <p:nvPr/>
          </p:nvSpPr>
          <p:spPr>
            <a:xfrm>
              <a:off x="6254280" y="2278800"/>
              <a:ext cx="1122480" cy="4525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k 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6159"/>
            <p:cNvSpPr/>
            <p:nvPr/>
          </p:nvSpPr>
          <p:spPr>
            <a:xfrm>
              <a:off x="4946040" y="2957760"/>
              <a:ext cx="1122480" cy="4525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áce 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6161"/>
            <p:cNvSpPr/>
            <p:nvPr/>
          </p:nvSpPr>
          <p:spPr>
            <a:xfrm>
              <a:off x="6255720" y="2957760"/>
              <a:ext cx="1122480" cy="4525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áce 20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6163"/>
            <p:cNvSpPr/>
            <p:nvPr/>
          </p:nvSpPr>
          <p:spPr>
            <a:xfrm>
              <a:off x="4197600" y="3636720"/>
              <a:ext cx="1122480" cy="45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Můj projekt.d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6165"/>
            <p:cNvSpPr/>
            <p:nvPr/>
          </p:nvSpPr>
          <p:spPr>
            <a:xfrm>
              <a:off x="5694120" y="3636720"/>
              <a:ext cx="1122480" cy="45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Kolegův projekt.x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6167"/>
            <p:cNvSpPr/>
            <p:nvPr/>
          </p:nvSpPr>
          <p:spPr>
            <a:xfrm>
              <a:off x="457200" y="2957760"/>
              <a:ext cx="1122480" cy="4525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udb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6169"/>
            <p:cNvSpPr/>
            <p:nvPr/>
          </p:nvSpPr>
          <p:spPr>
            <a:xfrm>
              <a:off x="3449160" y="2957760"/>
              <a:ext cx="1122480" cy="4525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t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6171"/>
            <p:cNvSpPr/>
            <p:nvPr/>
          </p:nvSpPr>
          <p:spPr>
            <a:xfrm>
              <a:off x="1205280" y="3636720"/>
              <a:ext cx="1121040" cy="4525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tky dovolen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6175"/>
            <p:cNvSpPr/>
            <p:nvPr/>
          </p:nvSpPr>
          <p:spPr>
            <a:xfrm>
              <a:off x="7565400" y="2957760"/>
              <a:ext cx="1121400" cy="4525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áce 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6180"/>
            <p:cNvSpPr/>
            <p:nvPr/>
          </p:nvSpPr>
          <p:spPr>
            <a:xfrm>
              <a:off x="457200" y="4315680"/>
              <a:ext cx="1121040" cy="4525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tky Chorvatsk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6182"/>
            <p:cNvSpPr/>
            <p:nvPr/>
          </p:nvSpPr>
          <p:spPr>
            <a:xfrm>
              <a:off x="1952280" y="4315680"/>
              <a:ext cx="1122480" cy="4525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Fotky Karibi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6184"/>
            <p:cNvSpPr/>
            <p:nvPr/>
          </p:nvSpPr>
          <p:spPr>
            <a:xfrm>
              <a:off x="2700720" y="4994640"/>
              <a:ext cx="1121400" cy="45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Já a krokodýl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6186"/>
            <p:cNvSpPr/>
            <p:nvPr/>
          </p:nvSpPr>
          <p:spPr>
            <a:xfrm>
              <a:off x="2700720" y="5673240"/>
              <a:ext cx="1122480" cy="45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Korálový útes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to je ploch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láštní slož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a se otvírá při startu počítače a je neustále otevř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hodná k vytváření zástup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áří se, že je tím nejzákladnějším prvkem v počítač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je to ploch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57200" y="1600200"/>
            <a:ext cx="8229240" cy="4525560"/>
            <a:chOff x="457200" y="1600200"/>
            <a:chExt cx="8229240" cy="4525560"/>
          </a:xfrm>
        </p:grpSpPr>
        <p:cxnSp>
          <p:nvCxnSpPr>
            <p:cNvPr id="145" name="_s15399"/>
            <p:cNvCxnSpPr>
              <a:stCxn id="146" idx="0"/>
              <a:endCxn id="147" idx="2"/>
            </p:cNvCxnSpPr>
            <p:nvPr/>
          </p:nvCxnSpPr>
          <p:spPr>
            <a:xfrm flipV="1" rot="16200000">
              <a:off x="5289120" y="3829680"/>
              <a:ext cx="219240" cy="566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15397"/>
            <p:cNvCxnSpPr>
              <a:stCxn id="147" idx="0"/>
              <a:endCxn id="149" idx="2"/>
            </p:cNvCxnSpPr>
            <p:nvPr/>
          </p:nvCxnSpPr>
          <p:spPr>
            <a:xfrm flipV="1">
              <a:off x="5115960" y="3347640"/>
              <a:ext cx="1440" cy="219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15395"/>
            <p:cNvCxnSpPr>
              <a:stCxn id="149" idx="0"/>
              <a:endCxn id="151" idx="2"/>
            </p:cNvCxnSpPr>
            <p:nvPr/>
          </p:nvCxnSpPr>
          <p:spPr>
            <a:xfrm flipV="1" rot="16200000">
              <a:off x="3937320" y="1732320"/>
              <a:ext cx="219240" cy="2138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15365"/>
            <p:cNvCxnSpPr>
              <a:stCxn id="153" idx="3"/>
              <a:endCxn id="154" idx="2"/>
            </p:cNvCxnSpPr>
            <p:nvPr/>
          </p:nvCxnSpPr>
          <p:spPr>
            <a:xfrm flipV="1">
              <a:off x="2625840" y="4659120"/>
              <a:ext cx="127440" cy="1249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15366"/>
            <p:cNvCxnSpPr>
              <a:stCxn id="156" idx="3"/>
              <a:endCxn id="154" idx="2"/>
            </p:cNvCxnSpPr>
            <p:nvPr/>
          </p:nvCxnSpPr>
          <p:spPr>
            <a:xfrm flipV="1">
              <a:off x="2625840" y="4659840"/>
              <a:ext cx="127440" cy="593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15367"/>
            <p:cNvCxnSpPr>
              <a:stCxn id="154" idx="1"/>
              <a:endCxn id="158" idx="2"/>
            </p:cNvCxnSpPr>
            <p:nvPr/>
          </p:nvCxnSpPr>
          <p:spPr>
            <a:xfrm rot="10800000">
              <a:off x="1732320" y="4003560"/>
              <a:ext cx="637200" cy="43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5368"/>
            <p:cNvCxnSpPr>
              <a:stCxn id="160" idx="3"/>
              <a:endCxn id="158" idx="2"/>
            </p:cNvCxnSpPr>
            <p:nvPr/>
          </p:nvCxnSpPr>
          <p:spPr>
            <a:xfrm flipV="1">
              <a:off x="1604880" y="4003920"/>
              <a:ext cx="128880" cy="43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5369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7749000" y="2354760"/>
              <a:ext cx="219240" cy="893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15370"/>
            <p:cNvCxnSpPr>
              <a:stCxn id="158" idx="0"/>
              <a:endCxn id="165" idx="2"/>
            </p:cNvCxnSpPr>
            <p:nvPr/>
          </p:nvCxnSpPr>
          <p:spPr>
            <a:xfrm flipV="1" rot="16200000">
              <a:off x="1622160" y="3456000"/>
              <a:ext cx="2192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15371"/>
            <p:cNvCxnSpPr>
              <a:stCxn id="165" idx="0"/>
              <a:endCxn id="151" idx="2"/>
            </p:cNvCxnSpPr>
            <p:nvPr/>
          </p:nvCxnSpPr>
          <p:spPr>
            <a:xfrm flipH="1" flipV="1" rot="5400000">
              <a:off x="2244600" y="2178360"/>
              <a:ext cx="219240" cy="1247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5372"/>
            <p:cNvCxnSpPr>
              <a:stCxn id="168" idx="0"/>
              <a:endCxn id="151" idx="2"/>
            </p:cNvCxnSpPr>
            <p:nvPr/>
          </p:nvCxnSpPr>
          <p:spPr>
            <a:xfrm flipH="1" flipV="1" rot="5400000">
              <a:off x="1799280" y="1732320"/>
              <a:ext cx="219240" cy="2139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5373"/>
            <p:cNvCxnSpPr>
              <a:stCxn id="170" idx="1"/>
              <a:endCxn id="171" idx="2"/>
            </p:cNvCxnSpPr>
            <p:nvPr/>
          </p:nvCxnSpPr>
          <p:spPr>
            <a:xfrm rot="10800000">
              <a:off x="6519240" y="3347640"/>
              <a:ext cx="126720" cy="43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15374"/>
            <p:cNvCxnSpPr>
              <a:stCxn id="173" idx="3"/>
              <a:endCxn id="171" idx="2"/>
            </p:cNvCxnSpPr>
            <p:nvPr/>
          </p:nvCxnSpPr>
          <p:spPr>
            <a:xfrm flipV="1">
              <a:off x="6393240" y="3348000"/>
              <a:ext cx="127440" cy="43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5375"/>
            <p:cNvCxnSpPr>
              <a:stCxn id="175" idx="0"/>
              <a:endCxn id="163" idx="2"/>
            </p:cNvCxnSpPr>
            <p:nvPr/>
          </p:nvCxnSpPr>
          <p:spPr>
            <a:xfrm flipV="1">
              <a:off x="7412400" y="2692080"/>
              <a:ext cx="1440" cy="219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15376"/>
            <p:cNvCxnSpPr>
              <a:stCxn id="171" idx="0"/>
              <a:endCxn id="163" idx="2"/>
            </p:cNvCxnSpPr>
            <p:nvPr/>
          </p:nvCxnSpPr>
          <p:spPr>
            <a:xfrm flipH="1" flipV="1" rot="5400000">
              <a:off x="6856560" y="2355120"/>
              <a:ext cx="219240" cy="893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15377"/>
            <p:cNvCxnSpPr>
              <a:stCxn id="163" idx="0"/>
              <a:endCxn id="178" idx="2"/>
            </p:cNvCxnSpPr>
            <p:nvPr/>
          </p:nvCxnSpPr>
          <p:spPr>
            <a:xfrm flipV="1" rot="16200000">
              <a:off x="6193440" y="1036440"/>
              <a:ext cx="219240" cy="2219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5378"/>
            <p:cNvCxnSpPr>
              <a:stCxn id="151" idx="0"/>
              <a:endCxn id="178" idx="2"/>
            </p:cNvCxnSpPr>
            <p:nvPr/>
          </p:nvCxnSpPr>
          <p:spPr>
            <a:xfrm flipH="1" flipV="1" rot="5400000">
              <a:off x="3976560" y="1038240"/>
              <a:ext cx="219240" cy="2216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8" name="_s15379"/>
            <p:cNvSpPr/>
            <p:nvPr/>
          </p:nvSpPr>
          <p:spPr>
            <a:xfrm>
              <a:off x="4812480" y="1600200"/>
              <a:ext cx="765000" cy="4370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ento počítač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5380"/>
            <p:cNvSpPr/>
            <p:nvPr/>
          </p:nvSpPr>
          <p:spPr>
            <a:xfrm>
              <a:off x="2595600" y="2255760"/>
              <a:ext cx="765000" cy="4370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k 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5381"/>
            <p:cNvSpPr/>
            <p:nvPr/>
          </p:nvSpPr>
          <p:spPr>
            <a:xfrm>
              <a:off x="7029000" y="2255760"/>
              <a:ext cx="765000" cy="4370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k 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5382"/>
            <p:cNvSpPr/>
            <p:nvPr/>
          </p:nvSpPr>
          <p:spPr>
            <a:xfrm>
              <a:off x="6137280" y="2911320"/>
              <a:ext cx="765000" cy="4370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áce 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5383"/>
            <p:cNvSpPr/>
            <p:nvPr/>
          </p:nvSpPr>
          <p:spPr>
            <a:xfrm>
              <a:off x="7030080" y="2911320"/>
              <a:ext cx="765000" cy="4370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áce 20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5384"/>
            <p:cNvSpPr/>
            <p:nvPr/>
          </p:nvSpPr>
          <p:spPr>
            <a:xfrm>
              <a:off x="5627160" y="3566880"/>
              <a:ext cx="765000" cy="43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Můj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projekt.d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5385"/>
            <p:cNvSpPr/>
            <p:nvPr/>
          </p:nvSpPr>
          <p:spPr>
            <a:xfrm>
              <a:off x="6647400" y="3566880"/>
              <a:ext cx="765000" cy="43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Kolegův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projekt.x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5386"/>
            <p:cNvSpPr/>
            <p:nvPr/>
          </p:nvSpPr>
          <p:spPr>
            <a:xfrm>
              <a:off x="457200" y="2911320"/>
              <a:ext cx="765000" cy="4370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udb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5387"/>
            <p:cNvSpPr/>
            <p:nvPr/>
          </p:nvSpPr>
          <p:spPr>
            <a:xfrm>
              <a:off x="1349640" y="2911320"/>
              <a:ext cx="765000" cy="4370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t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5388"/>
            <p:cNvSpPr/>
            <p:nvPr/>
          </p:nvSpPr>
          <p:spPr>
            <a:xfrm>
              <a:off x="1350360" y="3566880"/>
              <a:ext cx="764280" cy="4370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tk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volen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5389"/>
            <p:cNvSpPr/>
            <p:nvPr/>
          </p:nvSpPr>
          <p:spPr>
            <a:xfrm>
              <a:off x="7922520" y="2911320"/>
              <a:ext cx="763920" cy="4370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áce 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5390"/>
            <p:cNvSpPr/>
            <p:nvPr/>
          </p:nvSpPr>
          <p:spPr>
            <a:xfrm>
              <a:off x="840240" y="4222800"/>
              <a:ext cx="764280" cy="4370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otk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orvatsk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5391"/>
            <p:cNvSpPr/>
            <p:nvPr/>
          </p:nvSpPr>
          <p:spPr>
            <a:xfrm>
              <a:off x="2369880" y="4222800"/>
              <a:ext cx="765000" cy="4370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Fotk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Karibi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5392"/>
            <p:cNvSpPr/>
            <p:nvPr/>
          </p:nvSpPr>
          <p:spPr>
            <a:xfrm>
              <a:off x="1860480" y="5033160"/>
              <a:ext cx="764280" cy="43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Já a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krokodýl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5393"/>
            <p:cNvSpPr/>
            <p:nvPr/>
          </p:nvSpPr>
          <p:spPr>
            <a:xfrm>
              <a:off x="1859760" y="5688720"/>
              <a:ext cx="765000" cy="43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Korálový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útes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5394"/>
            <p:cNvSpPr/>
            <p:nvPr/>
          </p:nvSpPr>
          <p:spPr>
            <a:xfrm>
              <a:off x="4734360" y="2911320"/>
              <a:ext cx="765000" cy="4370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Document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Settin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5396"/>
            <p:cNvSpPr/>
            <p:nvPr/>
          </p:nvSpPr>
          <p:spPr>
            <a:xfrm>
              <a:off x="4734360" y="3566880"/>
              <a:ext cx="765000" cy="437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an Nová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5398"/>
            <p:cNvSpPr/>
            <p:nvPr/>
          </p:nvSpPr>
          <p:spPr>
            <a:xfrm>
              <a:off x="3262680" y="4222800"/>
              <a:ext cx="4838760" cy="1869840"/>
            </a:xfrm>
            <a:prstGeom prst="roundRect">
              <a:avLst>
                <a:gd name="adj" fmla="val 11037"/>
              </a:avLst>
            </a:prstGeom>
            <a:solidFill>
              <a:srgbClr val="f1a7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618720" y="4456080"/>
            <a:ext cx="1017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ž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b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zástup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50880" y="42926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45037" t="51218" r="45934" b="36895"/>
          <a:stretch/>
        </p:blipFill>
        <p:spPr>
          <a:xfrm>
            <a:off x="4643280" y="4941720"/>
            <a:ext cx="1241640" cy="1225800"/>
          </a:xfrm>
          <a:prstGeom prst="rect">
            <a:avLst/>
          </a:prstGeom>
          <a:ln w="0">
            <a:noFill/>
          </a:ln>
        </p:spPr>
      </p:pic>
      <p:cxnSp>
        <p:nvCxnSpPr>
          <p:cNvPr id="183" name=""/>
          <p:cNvCxnSpPr>
            <a:stCxn id="182" idx="0"/>
            <a:endCxn id="165" idx="3"/>
          </p:cNvCxnSpPr>
          <p:nvPr/>
        </p:nvCxnSpPr>
        <p:spPr>
          <a:xfrm flipH="1" flipV="1">
            <a:off x="2113920" y="3129840"/>
            <a:ext cx="3150360" cy="181188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dnotky velikosti v informa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1844640"/>
          <a:ext cx="8204040" cy="149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820404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6:06:59Z</dcterms:created>
  <dc:creator>ucebna</dc:creator>
  <dc:description/>
  <dc:language>en-US</dc:language>
  <cp:lastModifiedBy>JB</cp:lastModifiedBy>
  <dcterms:modified xsi:type="dcterms:W3CDTF">2007-08-17T19:23:49Z</dcterms:modified>
  <cp:revision>15</cp:revision>
  <dc:subject/>
  <dc:title>Windows - základy</dc:title>
</cp:coreProperties>
</file>